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3DB2-A933-4BC9-915D-6F727FEB4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5558-A857-49B1-B525-6F8A7A241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6DF8-5E46-4BFB-8E5D-3E776D56D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698-50D8-48A7-976C-9C740D37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EB3-77EF-47A7-BBD0-1C3D6FD2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1DC-B826-487C-9B12-96CBA0F1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2FB-D90C-4D77-905A-46C3512B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406-B11C-4826-8A49-FE4F9AFB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1F1-0335-4745-8008-87206863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937-73B5-48BF-A205-54E455B4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EF5-673B-4A0D-913F-5C8D5852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96C-2C62-412F-BBCC-75D55BF2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FFB-0315-465B-B628-0137746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185-54C2-48BB-8461-C5E51235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A33-D24E-40E7-AD20-702932EB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3A8A-14AC-47BF-8292-A8C47A6C1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наеста недеља наставе,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09 ТОКСИКОЛОГИЈА – КЛИНИЧКИ, ЕКОЛОШКИ И ЕКСПЕРИМЕНТАЛНИ АСП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бодан Јанков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ек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лазе се у биљци Chrysanthemum cinerariaefol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иретроиди су синтетски деривати природних пиретрина; постоји тип 1 пиретроида, који су мање токс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и, и тип 2 пиретроида, који су в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 токс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и, јер имају цијано груп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иретрини су практ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 нетокс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и, јер се после апсорпције јако брзо хидролизују до неактивних метаболи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иретроиди су стабилнији, па испољавају токс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пофилни 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бо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е у јетри, на цитохрому П450, до мање отровних метабо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у се у ур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ханизам деј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о и ДДТ, отварају канале за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окирају и канале за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ретроиди тип 2 изазивај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ест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лив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сцик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кално делују над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јно (нпр. на 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Деконтаминација водом и сапуно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ензодиазепин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ЕТ – Н,Н-диетил-3-метил бензам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је репелент за комар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да се апсорбује прек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велики, 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– 6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јер продире у масно тк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бо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се на цитохромима јет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се ур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ханизам дејства непоз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ЕТ – Н,Н-диетил-3-метил бензам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аз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акс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о д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отенз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филак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авном се тровања јављају код де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контаминација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зе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ербициди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пстанце намењене ун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вању непо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љне вегетације или регулацији неких фаз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отног циклуса биљак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кв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овања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а, јер је јефтин и доступан, и има тамно-браон боју, па 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 к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и из дигестивног тракта се не апсорбује потпуно (&lt;30%), али ипак довољно да изазове тр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-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ебно се накупља у бубрезима и п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бубрезима, јер се преко њих изл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је (9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пл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, јер га активно преузимају пнеумоц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ип 1 и 2 , тзв.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олиаминск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ктивним транспор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 по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аракват се редукује до моно-катјонске форме; та форма реагује са кисеоником, и редукује га до супероксид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а сама прелази назад у паракват дикатј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ај циклус се непрестано понавља, ствар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ве в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супероксида, који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је и изазива уп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аго тровање (&lt;1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% раств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рено тровање (10-2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% раств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 тровање (&gt;2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% раств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во настају корозивне промене на гастроинтестиналном тракту; зат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4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утна тубуларна нек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4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паност, инкоорд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4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утна повреда п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код 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 тровања; код умереног тровања,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е акутну фазу, после пар недеља код болесника се развија п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фиб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рганохлорни инсектиц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кват се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брзо квалитативно доказати у мок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редукцијом с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-дитионитом, под алкалним усл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дуковани моно-катјонски паракват је тамно-плаве бо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инути одело, опрати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одом и сапу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ирањ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у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оперфузија у прва 4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а (ако нема хемоперфузије, онда хемодијали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авати кисеоник, све док не буде неопходно због хипоксије, јер кисеоник пого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а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п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кв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 је параквату, али га пнеумоцити не преузим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азива пре свега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бубрега и корозивне промене у гастроинтестиналном тра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е као тровање параква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лифос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је много токс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, па тровање препаратима глифосата пре свега по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од сурфактаната и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ају корозивне промене гастроинтестиналног тракта, са пов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њем и болом у гру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и до акутног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а п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отензија, олиг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ортивне ме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4-дихло-дифенокси сир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на киселина (2,4-Д) и други хлорфенокси хербиц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 се апсорбује орално, а слабо прек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се не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њен 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ок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½ = 33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мета оксидативну фосфорилацију; у Кребсовом циклусу омета синтезу ацетил-ЦоА; омета синтезу ацетилхо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4-дихло-дифенокси сир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на киселина (2,4-Д) и други хлорфенокси хербиц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 с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л у устима и грлу, једњаку, повр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отензија, тахипнеја, тахикард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елесна температу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и зној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цидо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фузија, атакс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вулзије, ко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га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калинизација ур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емодијали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луфосинат и биалаф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љивица из тла Streptomyces hygroscopicus ствара трипептид фосфинотрицин – аланин – аланин (биалафо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алафос се метабо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до фосфинотрицина, који је аналог глутамата, и зове се ј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уфос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уфосинат инхибира глутамин – синтетазу (доводи до накупљања глутамата) и глутамат – декарбоксилазу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 с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је синтезу ГАБА-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бог ових ефеката делује неуротокс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луфосинат и биалаф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о делим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се апсорбују после оралне прим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уфосинат се из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неизмењен преко бубр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½ = 9.6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ци и симптоми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њу после латентног периода од в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ова (4-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луфосинат и биалаф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паност, атаксија, некоњуговани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крети 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х јаб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зоријент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ем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пресија диса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ликом опоравка м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д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до антероградне  и ретроградне амнезије (као код тровањ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љкама које акумулирају домо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у киселин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њ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ирањ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лу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дијализа + хемоперфу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азепа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т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нвулзиј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тали хербиц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трофенолни хербиц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252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нитрофенол и њему сл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једињења ометају оксидативну фосфорилац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разин и други хлоротриаз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33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або се апсорбују преко к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33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бро се апсорбују орал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33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табол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се преко цитохрома П4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33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л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ју се путем бубре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33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азивају гастроинтестинално крварење, ацидозу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К, 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ње бубрега и јет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3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ирање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лу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тоје 4 групе органохлорних инсектиц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хлоро-дифенил-трихлороетан (ДДТ) и анал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клодиени (алдрин, диелдрин, хептахлор, итд.) и с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супстанце (токсафен, диенохл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ксахлор-циклохексан (линд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рекс и хлорде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умиганти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упстанце које могу пр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у гасовито стање, и које користим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ти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рст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то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ил бромид (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 се апсорбује и орално и прек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уротокс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 је;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доње коликуле и дентатно једро (с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као недостатак витамина 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периферне нерве и дорзалне гангл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илира SH групе з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јних ен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ил бромид (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 сл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дисање доводи до губитка свести, конвулзи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рит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 је акутно 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ње пл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ње, поспаност, конфузија, дисартрија, диплопија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е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ј распол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та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сцик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оклон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к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могу настати пли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изл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ност мети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миду изазива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 јетре и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: деконтаминација, акти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угаљ и диазе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хилоропроп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сти се као фумигант земљ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вањ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цр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ров улази путем инха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птоми 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хикардија, тахипнеја, хипотенз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ној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утна повреда пл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цидо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бдомиоли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ергликем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ирање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лу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сф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6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сфиди (Z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AlP) се праве у виду таблета, које у контакту са водом ослоб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ју отровни гас фосфин (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6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алација фосфина изазива одмах промене, док после ингестије фосфида симптоми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њу за 30 мин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6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сфин блокира цитохром-ц оксидазу и ствара слободне радикале, који в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липидну пероксид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сф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 сл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р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ње и бол у трбу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спнеја, к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утно 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ње пл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хикардија, хипотензија, аритм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вулзије, кома, делирију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рати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лудац (П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ња! Сад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ј одмах уклонити, јер фосфин м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и даље да се ослоб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 из фосфида и отрује медицинске раднике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дати натријум-бикарбонат у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лудац, јер неутрал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киселину и смањује стварање фосфина из фосфи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лфурил флуор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 с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ти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терми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ханизам токс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г дејства непоз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вање 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на тровање метил-бром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води и до хипокалцемије, јер флуор везује јон калциј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о треба пратити ниво калцијума у серуму, и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и агресивно хипокалцем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Хексахлоробензе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ристи се као фунгицид за заштиту се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писана је хронична токсичност, после дуготрајне исхране семеном које је њиме заштиће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писано је тровање код сељака у Турској, који су јели хлеб од брашна добијеног млевењем пшенице заштићене хексахлоробензе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метао је синтезу хемоглобина, па су се накупљали порфир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линичка слика – као код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hiria cutanea tard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: урин црвене боје, буле по кожи после излагања сунцу, ожиљци на кожи и појава маљавости, увећање јетре, смањење мишићне масе, појава артритиса, губитак апети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етаболише се тако што се оксидише и дехлоринизу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84060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Формула и канцерогеност хексахлоробенз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2225520"/>
            <a:ext cx="389736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ред порфириј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хексахлоробензен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же после вишегодишњег уношења у организам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 изазове карцином ћелија јетр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5888160" y="2867040"/>
            <a:ext cx="2066760" cy="21859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860400" y="5364000"/>
            <a:ext cx="645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Seldén A, Jacobson G, Berg P, Axelson O. Hepatocellular carcinoma and exposure to hexachlorobenzene:  a case report. Br J Ind Med. 1989;46(2):138–4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и органохлорни инсектициди се добро апсорбују инхалацијом и орал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ДТ и његови аналози, затим токсафен, се слабо апсорбују преко к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; остали се добро апсорбују кроз к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и су липофилни, па улазе у масно тки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и се метабол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оксидацијом на микрозомном систему у је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зо се метабол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линдан, ендрин, токсафен, диенохлор, па се брзо и елимин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, не стигав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да се з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јније депонују у масном тки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то је t ½ линдана 2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а t ½ ДДТ-а и хлордекона се мери месецима и годин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л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ју се најв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преко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ДТ отвара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нале на аксон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клодиени, линдан и токсафен блокирају рецепторе за ГАБА-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 доводе до хиперексцитабилности ЦНС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 овога, сензиби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иокард на катехоламине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к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ритми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 слика акутног тро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естезије, хиперестезије усана и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обо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окло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итација, конфу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ецифицности кли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е сл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лодиени су познати по томе да изазивају конвулзије које могу рецидивирати неколико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им акутне токс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сти, хлордекон, који се екстремно дуго зад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а у организму, изазива хр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трова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ем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аб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соклонус (невољни покрети 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х јаб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такс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нталне пром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убитак т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е и пораст ензима јетре у серу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в. 5% глукоза и витамин 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контаминација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водом и сапу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азепам, а ако нема ефекта, пентобарбитал и анестезија са м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м релаксаци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рално холестирамин, 16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дан, подељено у в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дневних доза; посебно се добро везује за хлорде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иретрини и пиретро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3:26:38Z</dcterms:created>
  <dc:creator>user1</dc:creator>
  <dc:description/>
  <dc:language>en-US</dc:language>
  <cp:lastModifiedBy>Windows korisnik</cp:lastModifiedBy>
  <dcterms:modified xsi:type="dcterms:W3CDTF">2018-01-15T20:05:27Z</dcterms:modified>
  <cp:revision>74</cp:revision>
  <dc:subject/>
  <dc:title>Slide 1</dc:title>
</cp:coreProperties>
</file>